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58400" cy="7545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C73-AF69-4E8B-8534-2F6E3FB5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8548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4200" y="4383000"/>
            <a:ext cx="8548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012-2AE2-4EFE-802A-459202A6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200" y="438300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4680" y="438300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367-9844-401C-8602-7FA6D388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640" y="184464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5440" y="184464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4200" y="438300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640" y="438300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5440" y="438300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D5A-7BE1-43B7-9822-E4BE3039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CA972-DB8D-4C19-8337-C314C4E21C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4200" y="1844640"/>
            <a:ext cx="85485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32ADC-A1D3-4DA5-9C12-D41DF0B0FA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854856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14779-111A-439D-8B81-77F041B051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454A1-0A35-44B6-9B65-925E2A60D0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7B58C-BC32-4CE1-A67B-FDBD2DBEE3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057400" y="220680"/>
            <a:ext cx="7694640" cy="61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D1877-B01D-4A0E-A643-E118166CBC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4200" y="438300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351CF-594F-454E-8A89-D9006D1B2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4200" y="1844640"/>
            <a:ext cx="85485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0BC-BCF7-4352-941A-77BC4D48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34680" y="438300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42160-6E7E-40A8-9155-376B4232C8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4200" y="4383000"/>
            <a:ext cx="8548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7086A-301C-4E84-AFDA-DBB857D6BB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8548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4200" y="4383000"/>
            <a:ext cx="8548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B0FAB-5D11-4708-9021-C61C6EDE64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4200" y="438300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34680" y="438300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59D05-3556-4FF5-AEAC-41A0428C16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44640" y="184464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35440" y="184464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4200" y="438300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44640" y="438300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35440" y="4383000"/>
            <a:ext cx="2752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1FC80-9938-4407-B9C2-1D276B4397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854856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A7A-8FA4-41B8-B504-A647AE51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678-5165-4D07-B616-79452C6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BBF-6CC4-4584-A1B2-A546477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400" y="220680"/>
            <a:ext cx="7694640" cy="61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D71-8CAF-42BB-8015-02916DA2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4200" y="438300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C27-3C01-4F3E-A911-0B6A7EA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4680" y="438300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7C8-7A23-4145-BEE2-B91D6044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4680" y="1844640"/>
            <a:ext cx="417168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4200" y="4383000"/>
            <a:ext cx="8548560" cy="2317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EC6-8520-4627-B22E-B65029C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54200" y="6543360"/>
            <a:ext cx="2093760" cy="831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vember 13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933640" y="6543360"/>
            <a:ext cx="4943520" cy="831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anford University - EE281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62840" y="6873480"/>
            <a:ext cx="752400" cy="50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330948-2E79-4C30-BC27-6E714B02086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54200" y="1844640"/>
            <a:ext cx="854856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7400" y="1316160"/>
            <a:ext cx="7696080" cy="13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885160" y="637056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62120" y="228600"/>
            <a:ext cx="128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0058400" cy="7610400"/>
            <a:chOff x="0" y="0"/>
            <a:chExt cx="10058400" cy="7610400"/>
          </a:xfrm>
        </p:grpSpPr>
        <p:sp>
          <p:nvSpPr>
            <p:cNvPr id="45" name=""/>
            <p:cNvSpPr/>
            <p:nvPr/>
          </p:nvSpPr>
          <p:spPr>
            <a:xfrm>
              <a:off x="9661680" y="488880"/>
              <a:ext cx="396720" cy="346716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0000ff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10058400" cy="2346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ffffff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279440"/>
              <a:ext cx="10058400" cy="626436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ffffff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20760"/>
              <a:ext cx="10058400" cy="93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2001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646360"/>
              <a:ext cx="10058400" cy="1176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6002b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24120" y="1674720"/>
              <a:ext cx="7334280" cy="586908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ffffff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787920"/>
              <a:ext cx="10058400" cy="336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6002b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8520"/>
              <a:ext cx="6861240" cy="370188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ffffff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220680"/>
            <a:ext cx="7694640" cy="1319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54200" y="1844640"/>
            <a:ext cx="8548560" cy="4859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4200" y="6873840"/>
            <a:ext cx="2095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6920" y="68738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7209000" y="6873480"/>
            <a:ext cx="2093760" cy="50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6C1660-BDAF-4DB3-8691-8EF70ED45700}" type="slidenum">
              <a:rPr b="0" lang="en-US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intuit.ru/video/7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rimble.com/products/catalog/oem/lassen2.htm" TargetMode="External"/><Relationship Id="rId2" Type="http://schemas.openxmlformats.org/officeDocument/2006/relationships/hyperlink" Target="ftp://ftp.trimble.com/pub/sct/embedded/pubs/lassensk2man.pdf" TargetMode="External"/><Relationship Id="rId3" Type="http://schemas.openxmlformats.org/officeDocument/2006/relationships/hyperlink" Target="http://www.garmin.com/manuals/spec35.pdf" TargetMode="External"/><Relationship Id="rId4" Type="http://schemas.openxmlformats.org/officeDocument/2006/relationships/hyperlink" Target="http://www.gpsy.com/gpsinfo/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tp://ftp.glcf.umiacs.umd.edu/glcf/SRT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us-roads.ru/gps/oziexplorer.htm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nn.ru/data/ufiles/34/26/93/269341.MapSetToolKit.rar" TargetMode="External"/><Relationship Id="rId2" Type="http://schemas.openxmlformats.org/officeDocument/2006/relationships/hyperlink" Target="http://garmin-nnov.ru/index.php?option=com_content&amp;task=view&amp;id=44&amp;Itemid=9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gps-club.ru/gps_news/detail.php?ID=24520" TargetMode="External"/><Relationship Id="rId2" Type="http://schemas.openxmlformats.org/officeDocument/2006/relationships/hyperlink" Target="http://www.gps-forum.ru/cgi-bin/forum/showpost.pl?Board=gpsgeneral&amp;Number=110363&amp;page=3&amp;view=expanded&amp;sb=5" TargetMode="External"/><Relationship Id="rId3" Type="http://schemas.openxmlformats.org/officeDocument/2006/relationships/hyperlink" Target="http://www.gps-forum.ru/cgi-bin/forum/showpost.pl?Board=gpsgeneral&amp;Number=110363&amp;page=3&amp;view=expanded&amp;sb=5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reemaps.ru/" TargetMode="External"/><Relationship Id="rId2" Type="http://schemas.openxmlformats.org/officeDocument/2006/relationships/hyperlink" Target="http://www.freemaps.ru/" TargetMode="External"/><Relationship Id="rId3" Type="http://schemas.openxmlformats.org/officeDocument/2006/relationships/hyperlink" Target="http://v-dorogu.narod.ru/" TargetMode="External"/><Relationship Id="rId4" Type="http://schemas.openxmlformats.org/officeDocument/2006/relationships/hyperlink" Target="http://v-dorogu.narod.ru/" TargetMode="External"/><Relationship Id="rId5" Type="http://schemas.openxmlformats.org/officeDocument/2006/relationships/hyperlink" Target="http://geoengine.nga.mil/geospatial/SW_TOOLS/NIMAMUSE/webinter/rast_roam.html" TargetMode="External"/><Relationship Id="rId6" Type="http://schemas.openxmlformats.org/officeDocument/2006/relationships/hyperlink" Target="http://geoengine.nga.mil/geospatial/SW_TOOLS/NIMAMUSE/webinter/rast_roam.html" TargetMode="External"/><Relationship Id="rId7" Type="http://schemas.openxmlformats.org/officeDocument/2006/relationships/hyperlink" Target="https://zulu.ssc.nasa.gov/mrsid/" TargetMode="External"/><Relationship Id="rId8" Type="http://schemas.openxmlformats.org/officeDocument/2006/relationships/hyperlink" Target="https://zulu.ssc.nasa.gov/mrsid/" TargetMode="External"/><Relationship Id="rId9" Type="http://schemas.openxmlformats.org/officeDocument/2006/relationships/hyperlink" Target="http://www.intuit.ru/video/7" TargetMode="External"/><Relationship Id="rId10" Type="http://schemas.openxmlformats.org/officeDocument/2006/relationships/hyperlink" Target="http://sasgis.ru/2009/10/27/kartograficheskij-internet-portal-gosgiscentra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4413240" cy="4724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5040" y="4700520"/>
            <a:ext cx="80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ГПС для ориентирования в поход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57240" y="15573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теперь рассказать о своем положени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3040" y="262908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сти на Эллипсоиде систему угловых координат относительно выбранных направл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луч из ЦЕНТРА Земли в данную точ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ересечении луча и Эллипсоида будет точка, и определить ее координаты – получатся широта и долго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от точке на Эллипсоиде до нашей точке – высота (или глуб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3040" y="1557360"/>
            <a:ext cx="77151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57240" y="1557360"/>
            <a:ext cx="742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А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объективного описания положения необходимо зна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1400" y="334332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числа – долготу, широту, выс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какого ЭЛЛИПСОИДА они получ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у координат на ЭТОМ Эллипсои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2 и 3 – называются ДАТУМОМ, а 1 – географическими координатами в этом дат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, что бы все материалы, были СОЗДАНЫ в одном ДАТ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57240" y="15573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ШИБ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1400" y="270036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координаты Х, У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пределены в одном датуме, то точка с теми же самыми координатами в другом датуме может отстоять от первой на расстоянии до пары кило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карта подготовлена в одном датуме, и потом в некоторых точках (3-4) на границе карты она связана с такой же картой, но подготовленной в другом датуме, то какая будет ошибка в середине кар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: - пропорциональна размеру карты и обратно пропорциональна разницы между датум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но одна десятитысячная от размера кар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57240" y="15573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есть дату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400" y="270036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лково 42 (СК-42) – наш основ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S-84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ой, принятый в ми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-95 – в котором сейчас производится у нас картографирование – смотреть «ГКИНП (ГНТА)-06-278-04 Руководство пользователя по выполнению работ в системе координат 1995 года (СК-95)" Федеральная служба геодезии и картограф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ОРОТКО о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G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200" y="1844640"/>
            <a:ext cx="855000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lvl="1" marL="817560" indent="-31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NavStar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Первое назв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5680" indent="-250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tarted development in 19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5680" indent="-250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irst four satellites launched in 19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5680" indent="-250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ull Operational Capacity (FOC) reached on July 17,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5680" indent="-250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ystem cost of $12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5680" indent="-250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PS comprised of three “segme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896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ace Segment (the satel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896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round Segment (the ground control net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896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ser Segment (GPS receivers and their us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2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*Selective Availability (S/A) deactivated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28600" y="1828800"/>
            <a:ext cx="4419720" cy="4343400"/>
            <a:chOff x="228600" y="1828800"/>
            <a:chExt cx="4419720" cy="4343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4197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1560" y="5357880"/>
              <a:ext cx="3375000" cy="81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4800" y="1828800"/>
              <a:ext cx="80352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GPS S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ACE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828800"/>
            <a:ext cx="54864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PS Constell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24 satellites (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pac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ehicles or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SV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20,200km altitude (12 hour orbit perio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6 orbital planes (5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inclinatio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satellites in each pla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PS Satellite Detai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Manufactured by Rockwell International, later by Lockheed M&amp;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~1900 lbs (in orbi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2.2m body, 7m with solar pan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SimSun"/>
              </a:rPr>
              <a:t>7-10 year expected lifeti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524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GPS B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OCK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IIR S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95304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GPS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аземный сегм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3040" y="2128680"/>
            <a:ext cx="822168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GPS S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1600200"/>
            <a:ext cx="4808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/A 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(Y) co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1=1575,42 МГц L2=1227,60 МГ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Vs transmit at 1575.42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V modulates using a unique 1023-bit pseudorandom (PRN) code sent at 1.023Mcps (chips per sec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0720" y="2284560"/>
            <a:ext cx="3201840" cy="460080"/>
            <a:chOff x="990720" y="2284560"/>
            <a:chExt cx="3201840" cy="460080"/>
          </a:xfrm>
        </p:grpSpPr>
        <p:sp>
          <p:nvSpPr>
            <p:cNvPr id="151" name=""/>
            <p:cNvSpPr/>
            <p:nvPr/>
          </p:nvSpPr>
          <p:spPr>
            <a:xfrm>
              <a:off x="9907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90720" y="274320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066680" y="2284560"/>
              <a:ext cx="180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286000"/>
              <a:ext cx="15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93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274320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295280" y="2284560"/>
              <a:ext cx="180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5280" y="2286000"/>
              <a:ext cx="7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274320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600200" y="2284560"/>
              <a:ext cx="14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0200" y="2286000"/>
              <a:ext cx="15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22860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52480" y="2743200"/>
              <a:ext cx="15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905120" y="2284560"/>
              <a:ext cx="14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228600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22860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1080" y="2743200"/>
              <a:ext cx="7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057400" y="2284560"/>
              <a:ext cx="14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57400" y="2286000"/>
              <a:ext cx="7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37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33720" y="274320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09680" y="2284560"/>
              <a:ext cx="180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9680" y="2286000"/>
              <a:ext cx="15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23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2743200"/>
              <a:ext cx="15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514600" y="2284560"/>
              <a:ext cx="14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14600" y="2286000"/>
              <a:ext cx="7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09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274320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66880" y="2284560"/>
              <a:ext cx="180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66880" y="2286000"/>
              <a:ext cx="15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9520" y="2743200"/>
              <a:ext cx="15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971800" y="2284560"/>
              <a:ext cx="14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1800" y="2286000"/>
              <a:ext cx="15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4080" y="22860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29000" y="2743200"/>
              <a:ext cx="7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505320" y="2284560"/>
              <a:ext cx="14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2286000"/>
              <a:ext cx="15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760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080" y="2743200"/>
              <a:ext cx="7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200400" y="2284560"/>
              <a:ext cx="14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2286000"/>
              <a:ext cx="7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76720" y="274320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352680" y="2284560"/>
              <a:ext cx="180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2286000"/>
              <a:ext cx="76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809880" y="2284560"/>
              <a:ext cx="180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2743200"/>
              <a:ext cx="15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625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880" y="2286000"/>
              <a:ext cx="15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038480" y="2284560"/>
              <a:ext cx="180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38480" y="2286000"/>
              <a:ext cx="15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1120" y="22860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62520" y="274320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752480" y="1905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23 chips (1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88920" y="2057400"/>
            <a:ext cx="765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205740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209680"/>
            <a:ext cx="5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8954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90920" y="2894040"/>
            <a:ext cx="160020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358128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358128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3581280"/>
            <a:ext cx="5331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358128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257800"/>
            <a:ext cx="5331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41148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codes (20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1840" y="358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88560" y="4267080"/>
            <a:ext cx="841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426708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5257800"/>
            <a:ext cx="5331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5257800"/>
            <a:ext cx="53352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257800"/>
            <a:ext cx="53352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257800"/>
            <a:ext cx="53352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257800"/>
            <a:ext cx="53352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518148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44956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590920" y="4493880"/>
            <a:ext cx="1600200" cy="76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791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bps (20ms/b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760" y="6248520"/>
            <a:ext cx="40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PRN code inverts to signify bit transition (0/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895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055600" y="2817720"/>
            <a:ext cx="30780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87480" y="55728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28880" y="2200320"/>
            <a:ext cx="6429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ема Г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зор приб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ает Г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ужно подготовить в Моск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ГПС может помо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еделение координ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5135400" cy="3714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29160" y="2557440"/>
            <a:ext cx="51404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пределение координ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5960" y="1600200"/>
            <a:ext cx="84182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обходимо чтобы часы на спутнике и на приемнике были синхронизирова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то достичь не реально без увеличения стоимости прием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ля синхронизации приемника нужен еще один спутник, и тогда будем знать не расстояния до спутников, а их взаимное положение относительно нашей точки, что тоже достаточно для определения собственного положения 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очность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G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14280" y="1271520"/>
            <a:ext cx="5072040" cy="5680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675040" y="184320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ntuit.ru/video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GPS R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S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200" y="1844640"/>
            <a:ext cx="85500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ble Embedded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pec Sheet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http://www.trimble.com/products/catalog/oem/lassen2.ht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ull manual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ftp://ftp.trimble.com/pub/sct/embedded/pubs/lassensk2man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5680" indent="-25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cludes excellent NMEA, TSIP, and TAIP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min Embedded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GPS35 Full manual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3"/>
              </a:rPr>
              <a:t>http://www.garmin.com/manuals/spec35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 GPS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A272C – GPS Theory and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A272D – Integrated sensor navigation (GPS, INS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eneral Info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4"/>
              </a:rPr>
              <a:t>http://www.gpsy.com/gpsinfo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акие есть прибор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200" y="1844640"/>
            <a:ext cx="85500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работаю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атарейки или 12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дите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RMIN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 все ост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чип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работе с картами и экра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Что дает Г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200" y="1844640"/>
            <a:ext cx="8550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ически тройку чисел, географических координ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счет софта, на основании введенной информации он может показать текущее положение относительно известных 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рибору объяснить положение некоторых объект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ы и Г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лектронные кар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200" y="1844640"/>
            <a:ext cx="8550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ровые – это космоснимки, сканы с ГШ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кторные, которые понимают приб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йчас большинство карт готовится в векторном виде, но они не доступ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ети есть некоторое количество карт векторного вида, но низкого ка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057400" y="281160"/>
            <a:ext cx="7696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бота с картами, что нужно сделать до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3040" y="1557360"/>
            <a:ext cx="855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пределить, те объекты относительно которых необходимо знать свое положение в походе с заданной точно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3320"/>
                <a:tab algn="l" pos="2009880"/>
                <a:tab algn="l" pos="3016080"/>
                <a:tab algn="l" pos="4022640"/>
                <a:tab algn="l" pos="5029200"/>
                <a:tab algn="l" pos="6035760"/>
                <a:tab algn="l" pos="7042320"/>
                <a:tab algn="l" pos="8048520"/>
                <a:tab algn="l" pos="9055080"/>
                <a:tab algn="l" pos="100616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57240" y="4129200"/>
            <a:ext cx="855036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6200" indent="-376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ь данные о зондировании земли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tp://ftp.glcf.umiacs.umd.edu/glcf/SRT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чти на всю Землю, кроме полярных областей, точность – одна точка в квадрате 90*90 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ь космосним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ь Геншта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4320" y="2914560"/>
            <a:ext cx="8550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lvl="1" marL="817560" indent="-312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17560"/>
                <a:tab algn="l" pos="1731960"/>
                <a:tab algn="l" pos="2646360"/>
                <a:tab algn="l" pos="3560760"/>
                <a:tab algn="l" pos="4475160"/>
                <a:tab algn="l" pos="5389560"/>
                <a:tab algn="l" pos="6303960"/>
                <a:tab algn="l" pos="7218360"/>
                <a:tab algn="l" pos="8132760"/>
                <a:tab algn="l" pos="9047160"/>
                <a:tab algn="l" pos="9961560"/>
                <a:tab algn="l" pos="108759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епятствия, интересные объекты и т.д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бота с ка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200" y="1844640"/>
            <a:ext cx="855000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ZIexplore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ет с растровыми картам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ходе – рисунок, на котором известно несколько объектов с известными координатами, на выходе – возможность определить координату любой точки на рису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наоборот, есть точки с известными координатами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z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их правильно отобразить на рису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http://www.rus-roads.ru/gps/oziexplorer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http://ozi-piter.narod.ru/articles_about_GPS/Gps_Ozi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бота с ка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00160" y="1200240"/>
            <a:ext cx="52862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95760" y="55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19861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ориентировани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1440" y="2771640"/>
            <a:ext cx="64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пределение своего положения относительно известных объектов на кар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00160" y="448632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чего оно нужно в поход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считать задачу ориентирования выполненн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бота с ка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200" y="1844640"/>
            <a:ext cx="8550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оздаем топооснову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Mapper 9.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ход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TM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выходе векторная карта горизонта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12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14280" y="3129120"/>
            <a:ext cx="4714920" cy="312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886040" y="2057400"/>
            <a:ext cx="7500960" cy="48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 fill="hold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бота с ка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1400" y="1700280"/>
            <a:ext cx="855036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SMapEdit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ет с большим количеством векторных форматов, может «подкладывать» под карту привязанный рас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14320" y="2271600"/>
            <a:ext cx="5857920" cy="4326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457880" y="2771640"/>
            <a:ext cx="485748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бота с ка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1400" y="1700280"/>
            <a:ext cx="855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Компиляция» в формат, понят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5000" y="2486160"/>
            <a:ext cx="855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т кар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min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ытый, но взлома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3040" y="3200400"/>
            <a:ext cx="8550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ь программа, которая на входе получает файл с открытым форматом, который зна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SMapEdit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на выходе создает совокупность файлов, совместимых с формат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GPSmapper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86040" y="985680"/>
            <a:ext cx="6072120" cy="627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бота с ка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1400" y="1700280"/>
            <a:ext cx="85503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ключаем карты 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ours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помощью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pSetTool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2843280"/>
            <a:ext cx="855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garmin-nnov.ru/index.php?option=com_content&amp;task=view&amp;id=44&amp;Itemid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абота с ка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1400" y="1700280"/>
            <a:ext cx="855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как же рас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4320" y="2200320"/>
            <a:ext cx="855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ь вариант, «полуавтоматической» вектор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1400" y="2771640"/>
            <a:ext cx="8550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рошо сканиру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дим карту в ограниченное количество цветом – лучше менее 8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sh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кторизуем с помощь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MaP2M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 принципу – одна односвязная область одного цвета = один полиг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обнее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gps-club.ru/gps_news/detail.php?ID=2452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451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gps-forum.ru/cgi-bin/forum/showpost.pl?Board=gpsgeneral&amp;Number=110363&amp;page=3&amp;view=expanded&amp;sb=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57400" y="503280"/>
            <a:ext cx="7696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4760"/>
                <a:tab algn="l" pos="2011320"/>
                <a:tab algn="l" pos="3017880"/>
                <a:tab algn="l" pos="4024440"/>
                <a:tab algn="l" pos="5030640"/>
                <a:tab algn="l" pos="6037200"/>
                <a:tab algn="l" pos="7043760"/>
                <a:tab algn="l" pos="8050320"/>
                <a:tab algn="l" pos="9056520"/>
                <a:tab algn="l" pos="10063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ще ссыл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4320" y="2200320"/>
            <a:ext cx="855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400" bIns="50400" anchor="t">
            <a:noAutofit/>
          </a:bodyPr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freemaps.ru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- хорошие лекции по картографии, рисованию ка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-dorogu.narod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- хорошая подборка статей п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PSMapEdit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угим программ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geoengine.nga.mil/geospatial/SW_TOOLS/NIMAMUSE/webinter/rast_roam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s://zulu.ssc.nasa.gov/mrsid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которое количество спутниковых сним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9"/>
              </a:rPr>
              <a:t>http://www.intuit.ru/video/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- хорошая лекция по GPS (принципы, использование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0"/>
              </a:rPr>
              <a:t>http://sasgis.ru/2009/10/27/kartograficheskij-internet-portal-gosgiscentra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рограмма для выкачивания гуглоснимков и прочих рес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6560">
              <a:spcBef>
                <a:spcPts val="700"/>
              </a:spcBef>
              <a:tabLst>
                <a:tab algn="l" pos="0"/>
                <a:tab algn="l" pos="378000"/>
                <a:tab algn="l" pos="1292400"/>
                <a:tab algn="l" pos="2206800"/>
                <a:tab algn="l" pos="3121200"/>
                <a:tab algn="l" pos="4035600"/>
                <a:tab algn="l" pos="4950000"/>
                <a:tab algn="l" pos="5864400"/>
                <a:tab algn="l" pos="6778800"/>
                <a:tab algn="l" pos="7693200"/>
                <a:tab algn="l" pos="8607600"/>
                <a:tab algn="l" pos="9522000"/>
                <a:tab algn="l" pos="104364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dur="indefinite" fill="hold">
                      <p:stCondLst>
                        <p:cond delay="indefinite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28880" y="198612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рассказать другим, о своем местоположени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71440" y="334332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сительно выбранных ориенти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00160" y="570060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иентиры могут быть локальные и глоб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28880" y="1986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географических координ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71440" y="334332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ая глобальная система координат для всего ми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0160" y="57006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такую систему выбр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28880" y="198612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приблизить Землю некоторой простой фигур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71440" y="3343320"/>
            <a:ext cx="64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такой фигуры достаточно произволен, но, как правило, такая фигура должна удовлетворять условия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28880" y="1986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ования к эллипсои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3040" y="262908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ть эллипсоидом вращ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м эллипсоида предполагается равным объему Зем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ая полуось эллипсоида лежит в плоскости экватора Зем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ая полуось направлена по оси вращения Зем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еквадратичное отклонение поверхности эллипсоида от поверхности геоида минимально по всей территории земного шара или его части в рамках некого выбранного критер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правило, цент эллипсоида совпадает с центром масс Зем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224784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00240" y="1414440"/>
            <a:ext cx="58006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1880" y="557280"/>
            <a:ext cx="63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 ориентир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28880" y="1986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липсоид Крассов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3040" y="26290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ая полуось (полярный радиус) 6 356 863 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ая полуось (экваториальный радиус) 6 378 245 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радиус Земли, принимаемой за шар 6 371 100 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ярное сжатие (отношение разницы полуосей к большой полуоси) 1/298,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Земли 510 083 058 км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меридиана 19 980 к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экватора 40 075,7 к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дуги 1° по меридиану на широте 0° 110,6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03:04:25Z</dcterms:created>
  <dc:creator>Pascal Stang</dc:creator>
  <dc:description/>
  <dc:language>en-US</dc:language>
  <cp:lastModifiedBy>chasovikov</cp:lastModifiedBy>
  <dcterms:modified xsi:type="dcterms:W3CDTF">2009-11-11T15:16:10Z</dcterms:modified>
  <cp:revision>76</cp:revision>
  <dc:subject/>
  <dc:title>PowerPoint Presentation</dc:title>
</cp:coreProperties>
</file>